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48920" y="965160"/>
            <a:ext cx="507060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49280" y="965160"/>
            <a:ext cx="5072040" cy="34815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372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Show you how the Windows start menu can be used to see which programs have been executed by a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0960" y="2374920"/>
            <a:ext cx="860904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333333"/>
                </a:solidFill>
                <a:latin typeface="Arial"/>
                <a:ea typeface="Lucida Sans Unicode"/>
              </a:rPr>
              <a:t>Risky PDF!</a:t>
            </a:r>
            <a:br>
              <a:rPr sz="4400"/>
            </a:br>
            <a:br>
              <a:rPr sz="4400"/>
            </a:br>
            <a:r>
              <a:rPr b="1" lang="en-GB" sz="2800" spc="-1" strike="noStrike">
                <a:solidFill>
                  <a:srgbClr val="333333"/>
                </a:solidFill>
                <a:latin typeface="Arial"/>
                <a:ea typeface="Lucida Sans Unicode"/>
              </a:rPr>
              <a:t>https://DidierSteven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20360" y="719928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0" y="733320"/>
            <a:ext cx="3600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o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76400" y="2340000"/>
            <a:ext cx="45021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619280" y="360360"/>
            <a:ext cx="719928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ormation dis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17840" y="2009880"/>
            <a:ext cx="518148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19280" y="360360"/>
            <a:ext cx="70200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ormation dis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cremental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08160" y="2639880"/>
            <a:ext cx="775332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0" y="733320"/>
            <a:ext cx="3600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o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60720" y="2160720"/>
            <a:ext cx="4500720" cy="46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0360" y="1979640"/>
            <a:ext cx="7740720" cy="5040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79640" y="360360"/>
            <a:ext cx="64800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ormation dis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lware Author at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979640" y="360360"/>
            <a:ext cx="64800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ormation dis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lware Author at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60360" y="2340000"/>
          <a:ext cx="7740720" cy="377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2340000"/>
                    <a:ext cx="77407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00000" y="460440"/>
            <a:ext cx="8460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pyright Infringement / Confidenti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40000" y="1979640"/>
            <a:ext cx="738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03560" y="181764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0" y="733320"/>
            <a:ext cx="3600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o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0" y="733320"/>
            <a:ext cx="3600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DF Mal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1884240"/>
            <a:ext cx="9315720" cy="54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0" y="733320"/>
            <a:ext cx="3600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mo ti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59240" y="2257560"/>
            <a:ext cx="33811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08240" y="900000"/>
            <a:ext cx="3862440" cy="2880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09640" y="4500720"/>
            <a:ext cx="6659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ortable Documen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ociated with PDF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0" y="733320"/>
            <a:ext cx="3600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t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40000" y="2201760"/>
            <a:ext cx="5757840" cy="46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itig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't allow PD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an 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ch / Up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/ Change attack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ndbox PDF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ck generic mal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lication whitel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 / 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0" y="733320"/>
            <a:ext cx="36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DF Mal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1884240"/>
            <a:ext cx="9315720" cy="54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0960" y="2514240"/>
            <a:ext cx="86090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Questions?</a:t>
            </a:r>
            <a:br>
              <a:rPr sz="4400"/>
            </a:br>
            <a:br>
              <a:rPr sz="4400"/>
            </a:br>
            <a:r>
              <a:rPr b="1" lang="en-GB" sz="2200" spc="-1" strike="noStrike">
                <a:solidFill>
                  <a:srgbClr val="333333"/>
                </a:solidFill>
                <a:latin typeface="Arial"/>
              </a:rPr>
              <a:t>And hopefully some answers...</a:t>
            </a:r>
            <a:br>
              <a:rPr sz="2200"/>
            </a:br>
            <a:endParaRPr b="1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0960" y="2519280"/>
            <a:ext cx="860904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ank you</a:t>
            </a: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http://blog.DidierStevens.com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00360" y="900000"/>
            <a:ext cx="6300720" cy="6120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00360" y="179280"/>
            <a:ext cx="414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12680" y="704880"/>
            <a:ext cx="3667320" cy="6496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13400" y="179280"/>
            <a:ext cx="3666960" cy="687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79640" y="179280"/>
            <a:ext cx="360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1520" y="2127240"/>
            <a:ext cx="3048120" cy="3633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19280" y="733320"/>
            <a:ext cx="5580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gic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720720"/>
            <a:ext cx="6300720" cy="55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0" y="733320"/>
            <a:ext cx="3600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57480" y="2592360"/>
            <a:ext cx="414360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70080" y="1735200"/>
            <a:ext cx="5738760" cy="4924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0" y="733320"/>
            <a:ext cx="36003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6119640" cy="5040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60720" y="360360"/>
            <a:ext cx="450072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DF - Forms Data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dier Stevens</dc:creator>
  <dc:description/>
  <dc:language>en-US</dc:language>
  <cp:lastModifiedBy/>
  <cp:revision>0</cp:revision>
  <dc:subject/>
  <dc:title/>
</cp:coreProperties>
</file>